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ucas County stroke cen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Lucas County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pi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terial o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lusio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valuation (RACE) Alert protocol. CAD, coronary artery disease; CVA, cerebrovascular accident; ED, emergency departm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mergency room protocol. ED, emergency department; EMS, emergency medical service; NIHSS, National Institutes of Health Stroke Scale; PT/INR, prothrombin time/international normalized ratio; RACE,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pid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terial o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clusion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valuation; RN, registered nu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oke care: initial data from a county-based bypass protocol for patients with acute stro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Syed F Zaidi, Julie Shawver, Aixa Espinosa Morales, Hisham Salahuddin, Gretchen Tietjen, David Lindstrom, Brent Parquette, Andrea Adams, Andrea Korsnack, and Mouhammad A Juma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ournal of NeuroInterventional Surg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9(7):631-63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une 16, 20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Society of NeuroInterventional Surger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ucas County stroke cent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50760" y="1079640"/>
            <a:ext cx="818208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7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yed F Zaidi et al. J NeuroIntervent Surg 2017;9:631-6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Society of NeuroInterventional Surger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ucas County Rapid Arterial oCclusion Evaluation (RACE) Alert protoco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98720" y="1079640"/>
            <a:ext cx="248616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987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yed F Zaidi et al. J NeuroIntervent Surg 2017;9:631-6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Society of NeuroInterventional Surger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mergency room protoco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748720" y="6840360"/>
            <a:ext cx="900000" cy="576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760320" y="1079640"/>
            <a:ext cx="8562960" cy="539424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76032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yed F Zaidi et al. J NeuroIntervent Surg 2017;9:631-6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8000" y="7289640"/>
            <a:ext cx="7559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pyright © Society of NeuroInterventional Surgery. All rights reserv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